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6837-DA76-411F-99F6-090E8077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is not currently an OBI term.  Is it a synonym for investig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design is not currently an OBI term.  Is it a synonym of investigation desig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0B0-68E8-453B-855B-2BC9B08A2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B21B-8414-4682-86C5-6EF22613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EA9C-F58D-49CD-B494-6B4F883D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D903-4B36-4E17-A006-578DDB8A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85BA-656E-4583-9C40-73EB3F07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D642-47F2-4E04-8E8C-D38A20F8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7EC-E2AD-4287-972A-96258D04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5FA-58C3-4890-AE83-C8A7AE7E6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B22-3EF6-4223-89E7-17DDE07C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7FBA-29E1-4F61-B95C-7F0EBADA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708-090D-4DAA-8493-407C5002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C3D5-5916-409E-9242-DE87B5206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AED8-9C6F-4402-AA39-99D185D85C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3240"/>
            <a:ext cx="777240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membership into BFO/OBI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 rot="5400000">
            <a:off x="1531440" y="-291960"/>
            <a:ext cx="6122880" cy="81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881600" y="4805280"/>
            <a:ext cx="2015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Biological marker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 populations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Trial coordinator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 variable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Drug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ubject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53764" t="30841" r="2979" b="24000"/>
          <a:stretch/>
        </p:blipFill>
        <p:spPr>
          <a:xfrm>
            <a:off x="2428920" y="1522440"/>
            <a:ext cx="4219560" cy="3303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3652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12762" t="26392" r="5988" b="29168"/>
          <a:stretch/>
        </p:blipFill>
        <p:spPr>
          <a:xfrm>
            <a:off x="762120" y="952560"/>
            <a:ext cx="7924680" cy="3251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695720" y="420228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5440" y="4943520"/>
            <a:ext cx="3196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Case report form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atient file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Consent form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New drug application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Investigational new drug application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3411" t="31077" r="3514" b="24305"/>
          <a:stretch/>
        </p:blipFill>
        <p:spPr>
          <a:xfrm>
            <a:off x="469800" y="1663560"/>
            <a:ext cx="8102880" cy="32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12108" t="28995" r="8332" b="29168"/>
          <a:stretch/>
        </p:blipFill>
        <p:spPr>
          <a:xfrm>
            <a:off x="851040" y="1231920"/>
            <a:ext cx="7759440" cy="3060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84880" y="4295880"/>
            <a:ext cx="28371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Meta-analysis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Quality assurance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Quality control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Baseline assessment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Validation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Coding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ermuted block randomization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econdary-study-protocol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Intervention-step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Blinding-method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43840" y="4302000"/>
            <a:ext cx="106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udy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795840"/>
            <a:ext cx="1523880" cy="457200"/>
          </a:xfrm>
          <a:prstGeom prst="rect">
            <a:avLst/>
          </a:prstGeom>
          <a:noFill/>
          <a:ln w="38160">
            <a:solidFill>
              <a:srgbClr val="7a7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90600" y="1798560"/>
            <a:ext cx="290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Development plan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andard operating procedures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tatistical analysis plan (CDI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2529000"/>
            <a:ext cx="658800" cy="457200"/>
          </a:xfrm>
          <a:prstGeom prst="rect">
            <a:avLst/>
          </a:prstGeom>
          <a:noFill/>
          <a:ln w="38160">
            <a:solidFill>
              <a:srgbClr val="7a7a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12404" t="29429" r="3924" b="25220"/>
          <a:stretch/>
        </p:blipFill>
        <p:spPr>
          <a:xfrm>
            <a:off x="433440" y="1112760"/>
            <a:ext cx="8161200" cy="3318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8080" y="4202280"/>
            <a:ext cx="20048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Negative findings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ositive findings (MU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Primary-outcome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565ff"/>
                </a:solidFill>
                <a:latin typeface="Arial"/>
              </a:rPr>
              <a:t>Secondary-outcome (RC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9:50:08Z</dcterms:created>
  <dc:creator>Pathology</dc:creator>
  <dc:description/>
  <dc:language>en-US</dc:language>
  <cp:lastModifiedBy>Pathology</cp:lastModifiedBy>
  <dcterms:modified xsi:type="dcterms:W3CDTF">2007-09-25T17:33:46Z</dcterms:modified>
  <cp:revision>44</cp:revision>
  <dc:subject/>
  <dc:title>CTO - Clinical Trials/Research in the Ontology of Biomedical Investigation</dc:title>
</cp:coreProperties>
</file>